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211916"/>
        <c:axId val="47766654"/>
      </c:barChart>
      <c:catAx>
        <c:axId val="632119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766654"/>
        <c:crosses val="autoZero"/>
        <c:auto val="1"/>
        <c:lblAlgn val="ctr"/>
        <c:lblOffset val="100"/>
        <c:noMultiLvlLbl val="0"/>
      </c:catAx>
      <c:valAx>
        <c:axId val="477666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119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0F93-1E7A-40A0-9B8F-657A9E2CB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810-A73D-4B5A-92C6-7CAAE1EA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B64-E97A-4E74-B300-728FC0EB6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2B61-AF61-44B6-B64B-BB899844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EFA0-C259-49A1-A87D-0B8E6A956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2045-4DA3-4791-88FD-27FEB4545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0ADC-9F9C-4A08-B462-2BE6ABC9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9F0B-1907-4233-9D84-B73FA7C82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59A0-9F8A-449A-BF21-7FA9C278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BD05-F2C3-4B77-B6E9-85AA8126E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F27B-02F3-4365-90B4-08C4EE195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2701-1DC3-497B-B1FF-B3CED3B7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ACA71-BC7E-49FB-8721-26F4D0DCDE1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