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8653"/>
        <c:axId val="86787117"/>
      </c:barChart>
      <c:catAx>
        <c:axId val="78978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7117"/>
        <c:crosses val="autoZero"/>
        <c:auto val="1"/>
        <c:lblAlgn val="ctr"/>
        <c:lblOffset val="100"/>
        <c:noMultiLvlLbl val="0"/>
      </c:catAx>
      <c:valAx>
        <c:axId val="86787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8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57F-3759-4010-AD7E-E5FA67ED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924-E4F9-462E-B5A1-10C1DC6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AC4-7C57-40A8-B0C0-E800F5C1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15-220B-4E67-BB23-1E2E9516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F7D-E425-43D5-BB9F-CBEA40CF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3AA-15B7-4C4B-92B8-EC7B348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BF6-893C-4E39-80C7-DBA9CF3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5FD-47F4-4E5E-910F-4611E3F6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43B-0C1D-42DD-B8D7-762AC52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236-A7D9-4077-AC82-A24BB8C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AD5-B45E-45B0-832F-66097B1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D87-191E-46A9-B771-4B95E6F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5DFBB-D21D-411B-8130-2A32DF3D2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