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51793"/>
        <c:axId val="63702155"/>
      </c:barChart>
      <c:catAx>
        <c:axId val="70751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02155"/>
        <c:crosses val="autoZero"/>
        <c:auto val="1"/>
        <c:lblAlgn val="ctr"/>
        <c:lblOffset val="100"/>
        <c:noMultiLvlLbl val="0"/>
      </c:catAx>
      <c:valAx>
        <c:axId val="63702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51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67D-98E9-49C0-9C9A-32167ED6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A1D-CEC9-4C6A-B198-13AAF9F7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0EA-C2DD-468C-A096-6E74D5B1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54-D0CD-4E1D-BF37-4B5C2D13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581-D9E9-40C6-A18D-CADFAB30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A0F-FEBE-4985-BA7E-68F9786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0C8-8ED0-4BF1-9320-37A8C53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9A4-E329-4FA0-9FF2-4477A74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082-DE62-41D4-9E61-60851E15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842-9B09-410E-934A-883D215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D52-BDE4-4B5C-AA99-D551156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401-C423-456A-8AC4-65AA8C4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7558-0194-4EC2-B4F4-3E8C743AB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