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15677"/>
        <c:axId val="3219514"/>
      </c:barChart>
      <c:catAx>
        <c:axId val="13415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9514"/>
        <c:crosses val="autoZero"/>
        <c:auto val="1"/>
        <c:lblAlgn val="ctr"/>
        <c:lblOffset val="100"/>
        <c:noMultiLvlLbl val="0"/>
      </c:catAx>
      <c:valAx>
        <c:axId val="3219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15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0C6-0F22-4FBF-B716-CF0D2114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EAD-79E6-4017-A9AD-79AF2F26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2B7-529B-49E9-8BB8-D4CA89EF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0F7-CF65-4355-981D-4B281F06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F3E-F6B2-4F8F-90F5-CF9F1AE5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659-CD47-47B1-B690-6F78904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3F0-EE35-4A00-B7AD-110C83F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DFB-7AD0-462F-A4C3-804215B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2CA-9EA0-4DB2-82A3-BDD99E2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31F-1CBA-4757-A006-ABD707B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AF8-7075-4E91-A7A2-0A7761C9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03DB-3AA9-4881-9D35-F7AD1FD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CE0F-8CD2-43AC-A64B-FBEDEDBBFA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