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49791"/>
        <c:axId val="68358491"/>
      </c:barChart>
      <c:catAx>
        <c:axId val="97149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58491"/>
        <c:crosses val="autoZero"/>
        <c:auto val="1"/>
        <c:lblAlgn val="ctr"/>
        <c:lblOffset val="100"/>
        <c:noMultiLvlLbl val="0"/>
      </c:catAx>
      <c:valAx>
        <c:axId val="683584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49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204-2615-46B5-85BA-E6698CE1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82DF-9DD1-4E75-A06B-79F5B3B8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1B93-005E-4E23-85A9-9B810951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CD7C-86A0-40C0-9632-17F4C0EA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3F7-CFCA-47DF-8777-F35C191F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0DE2-B9CC-498C-9B67-A2196937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A076-F007-4DBD-A153-69F8F11F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9E4-9DD9-46D8-B1A4-FC121243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A3DB-8DBE-4F04-897C-E2D14C60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ED57-2177-4483-898D-90FAECFF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878-E1A5-4995-9736-40AB4858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108-6D96-4DBD-AEEC-8C865370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A46E1-95A4-4315-B198-CA6AF594E8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