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34204"/>
        <c:axId val="91503103"/>
      </c:barChart>
      <c:catAx>
        <c:axId val="72834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03103"/>
        <c:crosses val="autoZero"/>
        <c:auto val="1"/>
        <c:lblAlgn val="ctr"/>
        <c:lblOffset val="100"/>
        <c:noMultiLvlLbl val="0"/>
      </c:catAx>
      <c:valAx>
        <c:axId val="91503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34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445-D1D2-4AD2-A95E-F06636D7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1EC-4AC1-4C37-995E-46E40FAC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589-6203-40B7-9F9F-539CDE01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F6F-713E-4329-9840-F4D2642A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876-62E7-477F-899D-033749C9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2BE-B9C9-4413-A3B8-DA611258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9CB-53C2-4AC5-A226-244B1A1F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1C4-7D0F-410E-90FC-F71845A9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0A7-0AC2-4A9A-9420-150A3B9D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964-C3BA-4948-9BF9-246D9B4F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C50-5F40-47CD-B447-96A16193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01D-E47F-47B6-9513-80962036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B6896-E30D-498E-B39C-7A3F71CCC1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