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86995"/>
        <c:axId val="63931927"/>
      </c:barChart>
      <c:catAx>
        <c:axId val="34186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31927"/>
        <c:crosses val="autoZero"/>
        <c:auto val="1"/>
        <c:lblAlgn val="ctr"/>
        <c:lblOffset val="100"/>
        <c:noMultiLvlLbl val="0"/>
      </c:catAx>
      <c:valAx>
        <c:axId val="63931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86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AFF1-7388-4D62-BC30-2901085E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AD3-30DA-409C-A103-E5F86EC7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6EB1-A83F-478C-8277-4524F362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510-A812-4EBC-A371-7B097DCD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941-942E-4FBA-BA12-1C132B2F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1CF-D452-48C5-A851-2A1D164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779-3E9B-46D5-91FD-8669182C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32D-E3A9-4683-A395-378452BB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F5F-DFEB-4541-AAAC-271668F3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A33B-8C0F-4FCD-9BAB-28491BCE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DF4-5FF0-4DC8-8A28-F14F0868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A9E8-69FD-4A1F-BBCF-C706FD0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1DE91-F845-4A0C-B62F-224B1902B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